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5.png" ContentType="image/png"/>
  <Override PartName="/ppt/media/image22.pct" ContentType="image/x-pict"/>
  <Override PartName="/ppt/media/image23.pct" ContentType="image/x-pict"/>
  <Override PartName="/ppt/media/image26.png" ContentType="image/png"/>
  <Override PartName="/ppt/media/image16.png" ContentType="image/png"/>
  <Override PartName="/ppt/media/image15.png" ContentType="image/png"/>
  <Override PartName="/ppt/media/image12.pct" ContentType="image/x-pict"/>
  <Override PartName="/ppt/media/image14.png" ContentType="image/png"/>
  <Override PartName="/ppt/media/image11.pct" ContentType="image/x-pict"/>
  <Override PartName="/ppt/media/image1.pct" ContentType="image/x-pict"/>
  <Override PartName="/ppt/media/image34.png" ContentType="image/png"/>
  <Override PartName="/ppt/media/image2.jpeg" ContentType="image/jpeg"/>
  <Override PartName="/ppt/media/image19.pct" ContentType="image/x-pict"/>
  <Override PartName="/ppt/media/image10.pct" ContentType="image/x-pict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7.pct" ContentType="image/x-pict"/>
  <Override PartName="/ppt/media/image38.pct" ContentType="image/x-pict"/>
  <Override PartName="/ppt/media/image40.pct" ContentType="image/x-pict"/>
  <Override PartName="/ppt/media/image31.png" ContentType="image/png"/>
  <Override PartName="/ppt/media/image17.pct" ContentType="image/x-pict"/>
  <Override PartName="/ppt/media/image29.png" ContentType="image/png"/>
  <Override PartName="/ppt/media/image32.png" ContentType="image/png"/>
  <Override PartName="/ppt/media/image18.pct" ContentType="image/x-pict"/>
  <Override PartName="/ppt/media/image20.pct" ContentType="image/x-pict"/>
  <Override PartName="/ppt/media/image30.png" ContentType="image/png"/>
  <Override PartName="/ppt/media/image28.png" ContentType="image/png"/>
  <Override PartName="/ppt/media/image42.png" ContentType="image/png"/>
  <Override PartName="/ppt/media/image21.pct" ContentType="image/x-pict"/>
  <Override PartName="/ppt/media/image24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4.pct" ContentType="image/x-pict"/>
  <Override PartName="/ppt/media/image33.png" ContentType="image/png"/>
  <Override PartName="/ppt/media/image3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C1FC-A85C-4E8C-9B11-2AE70FEB5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the male and female hormones, testosterone and estradiol, differ from each other only by the attachment of different functional groups to an identical carbon skele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do we study carbon -- is it the most abundant element in living organism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126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&amp; O most abund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126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is the next most abund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at variety of polymers can be built from a small set of mon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omers can be connected in many combinations like the 26 letters in the alphabet can be used to create a great diversity of wor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cell has millions of different macromole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5627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macromolecules are poly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126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63680" indent="-1224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densation (dehydration) re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126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akdown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126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immense variety of polymers can be built from a small set of mon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bon chemistry = organic chem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is it a foundational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makes it so importa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be a good building block if you only form 1 or 2 bo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ke sugars: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can be arranged in different 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galact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dextr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formula but different structurally &amp; therefore different functionally. Molecular shape determines biological propert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. Isomers may be ineffective as medic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D72A-EA3A-422D-92D3-D909BC632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05EC-93DA-4484-8EA4-DAD8C474C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B1ED-E3B9-4F84-9545-244F23367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E82B-91D3-42E2-815A-513DA05E6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201E-E342-40A0-A246-911DA6072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00CA-D5B0-4BF9-A9BE-1FF42FA1C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313D-0440-4063-9BE7-2868F1EAE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1C23-E693-4F34-BE28-1CCE0D153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3025-CC79-4535-8121-E1F6A09BB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B886-9B94-4E3B-8918-4F9B3D432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6BB8-5D9B-4DF1-AAD9-C9ECAB8DB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2896-62D2-42E4-B51A-4CDE62B11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EF56-B648-482D-B1D2-34BC66022F99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package" Target="../embeddings/oleObject2.docx"/><Relationship Id="rId6" Type="http://schemas.openxmlformats.org/officeDocument/2006/relationships/image" Target="../media/image21.pct"/><Relationship Id="rId7" Type="http://schemas.openxmlformats.org/officeDocument/2006/relationships/image" Target="../media/image22.pct"/><Relationship Id="rId8" Type="http://schemas.openxmlformats.org/officeDocument/2006/relationships/image" Target="../media/image23.pct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package" Target="../embeddings/oleObject1.docx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359624" t="0" r="419249" b="0"/>
          <a:stretch/>
        </p:blipFill>
        <p:spPr>
          <a:xfrm>
            <a:off x="260280" y="3816360"/>
            <a:ext cx="2100240" cy="2959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Carb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Building Blocks of Life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7000" t="13585" r="27000" b="13585"/>
          <a:stretch/>
        </p:blipFill>
        <p:spPr>
          <a:xfrm>
            <a:off x="6248520" y="533520"/>
            <a:ext cx="2655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of 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ubstitute other atoms or groups around the carb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thane vs. ethan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 replaced by an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ydroxyl group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(–OH)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onpolar vs. polar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as vs. liqui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iological effects!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0440" y="6318000"/>
            <a:ext cx="1927440" cy="4752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thane (C</a:t>
            </a:r>
            <a:r>
              <a:rPr b="1" lang="en-US" sz="22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52280" y="5127480"/>
            <a:ext cx="4394160" cy="1206720"/>
            <a:chOff x="152280" y="5127480"/>
            <a:chExt cx="4394160" cy="1206720"/>
          </a:xfrm>
        </p:grpSpPr>
        <p:graphicFrame>
          <p:nvGraphicFramePr>
            <p:cNvPr id="153" name=""/>
            <p:cNvGraphicFramePr/>
            <p:nvPr/>
          </p:nvGraphicFramePr>
          <p:xfrm>
            <a:off x="3327480" y="5273640"/>
            <a:ext cx="1218960" cy="9144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27480" y="5273640"/>
                      <a:ext cx="12189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1739880" y="5133960"/>
              <a:ext cx="152388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152280" y="5127480"/>
              <a:ext cx="152424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5411880" y="4924440"/>
            <a:ext cx="3390840" cy="1384200"/>
            <a:chOff x="5411880" y="4924440"/>
            <a:chExt cx="3390840" cy="1384200"/>
          </a:xfrm>
        </p:grpSpPr>
        <p:graphicFrame>
          <p:nvGraphicFramePr>
            <p:cNvPr id="158" name=""/>
            <p:cNvGraphicFramePr/>
            <p:nvPr/>
          </p:nvGraphicFramePr>
          <p:xfrm>
            <a:off x="7251840" y="5030640"/>
            <a:ext cx="1550880" cy="10047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51840" y="5030640"/>
                      <a:ext cx="1550880" cy="10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5411880" y="4924440"/>
              <a:ext cx="168732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5904000" y="6316560"/>
            <a:ext cx="2437920" cy="4752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thanol (C</a:t>
            </a:r>
            <a:r>
              <a:rPr b="1" lang="en-US" sz="22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2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OH)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8"/>
          <a:srcRect l="0" t="0" r="2414403" b="0"/>
          <a:stretch/>
        </p:blipFill>
        <p:spPr>
          <a:xfrm>
            <a:off x="8174160" y="2536920"/>
            <a:ext cx="969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unctional group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12880" y="1371600"/>
            <a:ext cx="801360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arts of organic molecules that are involved in chemical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ive organic molecules distinctive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89f7"/>
                </a:solidFill>
                <a:latin typeface="Zapf Dingbats"/>
                <a:ea typeface="Zapf Dingbats"/>
              </a:rPr>
              <a:t>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xyl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6f89f7"/>
                </a:solidFill>
                <a:latin typeface="Zapf Dingbats"/>
                <a:ea typeface="Zapf Dingbats"/>
              </a:rPr>
              <a:t>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min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89f7"/>
                </a:solidFill>
                <a:latin typeface="Zapf Dingbats"/>
                <a:ea typeface="Zapf Dingbats"/>
              </a:rPr>
              <a:t>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rbonyl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6f89f7"/>
                </a:solidFill>
                <a:latin typeface="Zapf Dingbats"/>
                <a:ea typeface="Zapf Dingbats"/>
              </a:rPr>
              <a:t>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ulfhydry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89f7"/>
                </a:solidFill>
                <a:latin typeface="Zapf Dingbats"/>
                <a:ea typeface="Zapf Dingbats"/>
              </a:rPr>
              <a:t>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rboxyl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6f89f7"/>
                </a:solidFill>
                <a:latin typeface="Zapf Dingbats"/>
                <a:ea typeface="Zapf Dingbats"/>
              </a:rPr>
              <a:t>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hospha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ffect reactiv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kes hydrocarbon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philic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crease solubility in wa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iva la difference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6492"/>
          <a:stretch/>
        </p:blipFill>
        <p:spPr>
          <a:xfrm>
            <a:off x="914400" y="3906720"/>
            <a:ext cx="7467480" cy="2900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Basic structure of male &amp; female hormones is </a:t>
            </a:r>
            <a:r>
              <a:rPr b="1" lang="en-US" sz="2800" spc="-1" strike="noStrike" u="sng">
                <a:solidFill>
                  <a:srgbClr val="0f116a"/>
                </a:solidFill>
                <a:uFillTx/>
                <a:latin typeface="Arial"/>
              </a:rPr>
              <a:t>identical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dentical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rbon skeleto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tachment of different functional group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teract with different targets in the bod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effec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1840" y="5019840"/>
            <a:ext cx="812880" cy="5619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1840" y="5019840"/>
            <a:ext cx="812880" cy="5619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68600" y="6264360"/>
            <a:ext cx="812880" cy="561960"/>
          </a:xfrm>
          <a:prstGeom prst="ellipse">
            <a:avLst/>
          </a:prstGeom>
          <a:noFill/>
          <a:ln w="572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xy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ganic compounds with OH =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cohol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ames typically end in 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-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thano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1667" t="6545" r="1667" b="0"/>
          <a:stretch/>
        </p:blipFill>
        <p:spPr>
          <a:xfrm>
            <a:off x="669960" y="4022640"/>
            <a:ext cx="7956360" cy="1957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74" name="" descr=""/>
          <p:cNvPicPr/>
          <p:nvPr/>
        </p:nvPicPr>
        <p:blipFill>
          <a:blip r:embed="rId2"/>
          <a:srcRect l="0" t="0" r="65856" b="47389"/>
          <a:stretch/>
        </p:blipFill>
        <p:spPr>
          <a:xfrm>
            <a:off x="7162920" y="431640"/>
            <a:ext cx="142236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0" t="0" r="56577" b="66794"/>
          <a:stretch/>
        </p:blipFill>
        <p:spPr>
          <a:xfrm>
            <a:off x="7162920" y="372960"/>
            <a:ext cx="1930320" cy="14558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rbony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=O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double bonded to 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C=O at end molecule =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ldehyd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C=O in middle of molecule =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keto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1667" t="2161" r="1667" b="0"/>
          <a:stretch/>
        </p:blipFill>
        <p:spPr>
          <a:xfrm>
            <a:off x="1706400" y="4027320"/>
            <a:ext cx="6131160" cy="2399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53421" b="0"/>
          <a:stretch/>
        </p:blipFill>
        <p:spPr>
          <a:xfrm>
            <a:off x="6934320" y="380880"/>
            <a:ext cx="1993680" cy="1943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rboxyl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OH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 double bonded to O &amp; single bonded to OH grou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ompounds with COOH =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id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atty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mino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1667" t="2694" r="1667" b="20152"/>
          <a:stretch/>
        </p:blipFill>
        <p:spPr>
          <a:xfrm>
            <a:off x="695160" y="4691160"/>
            <a:ext cx="7956720" cy="196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64098" b="0"/>
          <a:stretch/>
        </p:blipFill>
        <p:spPr>
          <a:xfrm>
            <a:off x="7391520" y="419040"/>
            <a:ext cx="1536480" cy="1943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mino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1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-N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 attached to 2 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ompounds with N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min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mino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cts as bas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mmonia picks up H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from solu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1667" t="2625" r="2498" b="26182"/>
          <a:stretch/>
        </p:blipFill>
        <p:spPr>
          <a:xfrm>
            <a:off x="981000" y="4700520"/>
            <a:ext cx="7523280" cy="1779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lfhydryl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86960" y="1371240"/>
            <a:ext cx="83566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 bonded to 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ompounds with SH =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thiol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H groups stabilize the structure of protein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1667" t="3665" r="2498" b="0"/>
          <a:stretch/>
        </p:blipFill>
        <p:spPr>
          <a:xfrm>
            <a:off x="1058760" y="4255920"/>
            <a:ext cx="7594560" cy="1738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90" name="" descr=""/>
          <p:cNvPicPr/>
          <p:nvPr/>
        </p:nvPicPr>
        <p:blipFill>
          <a:blip r:embed="rId2"/>
          <a:srcRect l="0" t="0" r="68519" b="0"/>
          <a:stretch/>
        </p:blipFill>
        <p:spPr>
          <a:xfrm>
            <a:off x="7543800" y="457200"/>
            <a:ext cx="1155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3760" r="65904" b="0"/>
          <a:stretch/>
        </p:blipFill>
        <p:spPr>
          <a:xfrm>
            <a:off x="6819840" y="395280"/>
            <a:ext cx="2247840" cy="23479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at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8800" y="1371240"/>
            <a:ext cx="839484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 bound to 4 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19960" indent="-22392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onnects to C through an O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119960" indent="-22392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ots of O = lots of negative charg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3" marL="1568160" indent="-223920">
              <a:lnSpc>
                <a:spcPct val="11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highly reactive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2" marL="1119960" indent="-223920">
              <a:lnSpc>
                <a:spcPct val="110000"/>
              </a:lnSpc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ransfers energy between organic molecules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3" marL="1568160" indent="-223920">
              <a:lnSpc>
                <a:spcPct val="110000"/>
              </a:lnSpc>
              <a:spcBef>
                <a:spcPts val="550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ATP, GTP, etc.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rcRect l="1667" t="3628" r="1667" b="0"/>
          <a:stretch/>
        </p:blipFill>
        <p:spPr>
          <a:xfrm>
            <a:off x="1139760" y="5014800"/>
            <a:ext cx="7143840" cy="1640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7280" y="161280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cro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49133" t="71629" r="1078805" b="71629"/>
          <a:stretch/>
        </p:blipFill>
        <p:spPr>
          <a:xfrm>
            <a:off x="4684680" y="2481120"/>
            <a:ext cx="4302000" cy="41594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120" y="3195720"/>
            <a:ext cx="403884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Building Blocks</a:t>
            </a:r>
            <a:br>
              <a:rPr sz="3400"/>
            </a:b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of Life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3500" t="0" r="31500" b="13187"/>
          <a:stretch/>
        </p:blipFill>
        <p:spPr>
          <a:xfrm>
            <a:off x="7473960" y="249120"/>
            <a:ext cx="1623960" cy="1747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study Carbo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6040" y="1371600"/>
            <a:ext cx="792468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All of life is built on carbon 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ells</a:t>
            </a: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~72% H</a:t>
            </a:r>
            <a:r>
              <a:rPr b="1" lang="en-US" sz="30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O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~25% carbon compounds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2" marL="1167120" indent="-28008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carbohydrate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2" marL="1167120" indent="-28008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2" marL="1167120" indent="-28008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proteins 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2" marL="1167120" indent="-28008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nucleic acid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~3% salts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2" marL="1167120" indent="-28008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a, Cl, K…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11840" y="3656160"/>
            <a:ext cx="4092480" cy="3049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3"/>
          <a:srcRect l="18000" t="0" r="27000" b="3796"/>
          <a:stretch/>
        </p:blipFill>
        <p:spPr>
          <a:xfrm>
            <a:off x="6656400" y="1574640"/>
            <a:ext cx="186372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943600" y="2844720"/>
            <a:ext cx="2451240" cy="3670560"/>
          </a:xfrm>
          <a:prstGeom prst="rect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cro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maller organic molecules join together to form larger 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acromolecu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 major classes of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cromolecules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arbohydra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tei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nucleic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778360" y="2646360"/>
            <a:ext cx="2413080" cy="3645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451320" y="3112920"/>
            <a:ext cx="5654520" cy="3605040"/>
            <a:chOff x="3451320" y="3112920"/>
            <a:chExt cx="5654520" cy="3605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rcRect l="0" t="0" r="0" b="15000"/>
            <a:stretch/>
          </p:blipFill>
          <p:spPr>
            <a:xfrm>
              <a:off x="3451320" y="3112920"/>
              <a:ext cx="5654520" cy="36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8298360" y="3541680"/>
              <a:ext cx="465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70840" y="450828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18320" y="614988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36840" y="6149880"/>
              <a:ext cx="25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81280" y="4508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78280" y="4508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60080" y="450828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y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60240" y="1358640"/>
            <a:ext cx="81662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ng molecules built by linking repeating building blocks in a ch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onomer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ilding block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peated small unit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valent bo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7320" y="5343480"/>
            <a:ext cx="3448080" cy="54900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Geneva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3438360" y="3189240"/>
            <a:ext cx="5654520" cy="3605040"/>
            <a:chOff x="3438360" y="3189240"/>
            <a:chExt cx="5654520" cy="360504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rcRect l="0" t="0" r="0" b="15000"/>
            <a:stretch/>
          </p:blipFill>
          <p:spPr>
            <a:xfrm>
              <a:off x="3438360" y="3189240"/>
              <a:ext cx="5654520" cy="36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8285400" y="3618000"/>
              <a:ext cx="465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57880" y="458460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5360" y="622620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23880" y="6226200"/>
              <a:ext cx="25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68320" y="45846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65320" y="45846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47120" y="458460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to build a polym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5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Synthesi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joins monomers by “taking”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ou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e monomer donates OH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–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ther monomer donates H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ogether these form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quir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nerg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592600" y="4221000"/>
            <a:ext cx="2165400" cy="1650960"/>
            <a:chOff x="5592600" y="4221000"/>
            <a:chExt cx="2165400" cy="1650960"/>
          </a:xfrm>
        </p:grpSpPr>
        <p:sp>
          <p:nvSpPr>
            <p:cNvPr id="226" name=""/>
            <p:cNvSpPr/>
            <p:nvPr/>
          </p:nvSpPr>
          <p:spPr>
            <a:xfrm>
              <a:off x="5592600" y="4221000"/>
              <a:ext cx="2165400" cy="165096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ffea1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56920" y="4784040"/>
              <a:ext cx="139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enzym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31760" y="4991040"/>
            <a:ext cx="3993840" cy="52056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Geneva"/>
              </a:rPr>
              <a:t>Dehydration 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3560" y="5600880"/>
            <a:ext cx="4030200" cy="520560"/>
          </a:xfrm>
          <a:prstGeom prst="rect">
            <a:avLst/>
          </a:prstGeom>
          <a:solidFill>
            <a:srgbClr val="b7c1e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eneva"/>
              </a:rPr>
              <a:t>Condensatio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Gene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eneva"/>
              </a:rPr>
              <a:t>reac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778880" y="33336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807160" y="689040"/>
            <a:ext cx="2030400" cy="1106280"/>
          </a:xfrm>
          <a:prstGeom prst="wedgeEllipseCallout">
            <a:avLst>
              <a:gd name="adj1" fmla="val 62351"/>
              <a:gd name="adj2" fmla="val -504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You gott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be open to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“bond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4164120" y="3654360"/>
            <a:ext cx="4905360" cy="3181320"/>
            <a:chOff x="4164120" y="3654360"/>
            <a:chExt cx="4905360" cy="318132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rcRect l="0" t="0" r="0" b="13504"/>
            <a:stretch/>
          </p:blipFill>
          <p:spPr>
            <a:xfrm>
              <a:off x="4164120" y="3654360"/>
              <a:ext cx="4905360" cy="31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8366760" y="4070520"/>
              <a:ext cx="4165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Geneva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20960" y="48704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61400" y="48704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21000" y="63262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5120" y="6326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4320" y="63262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07440" y="631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eneva"/>
                </a:rPr>
                <a:t>H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to break down a polym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Digestion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to breakdown polymers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verse of dehydration synthesi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leave off one monomer at a ti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is split into H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nd OH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–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&amp; OH</a:t>
            </a:r>
            <a:r>
              <a:rPr b="1" lang="en-US" sz="2000" spc="-1" strike="noStrike" baseline="30000">
                <a:solidFill>
                  <a:srgbClr val="40458c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attach to end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quir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leases ener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869240" y="33660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578640" y="1220760"/>
            <a:ext cx="2030400" cy="871560"/>
          </a:xfrm>
          <a:prstGeom prst="wedgeEllipseCallout">
            <a:avLst>
              <a:gd name="adj1" fmla="val 29282"/>
              <a:gd name="adj2" fmla="val -11156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reaking u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s hard to do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8320" y="5500800"/>
            <a:ext cx="1998720" cy="52056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Geneva"/>
              </a:rPr>
              <a:t>Hydroly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8680" y="6110280"/>
            <a:ext cx="1799280" cy="520560"/>
          </a:xfrm>
          <a:prstGeom prst="rect">
            <a:avLst/>
          </a:prstGeom>
          <a:solidFill>
            <a:srgbClr val="b7c1e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eneva"/>
              </a:rPr>
              <a:t>Diges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911920" y="4199040"/>
            <a:ext cx="2165400" cy="1650960"/>
            <a:chOff x="5911920" y="4199040"/>
            <a:chExt cx="2165400" cy="1650960"/>
          </a:xfrm>
        </p:grpSpPr>
        <p:sp>
          <p:nvSpPr>
            <p:cNvPr id="248" name=""/>
            <p:cNvSpPr/>
            <p:nvPr/>
          </p:nvSpPr>
          <p:spPr>
            <a:xfrm>
              <a:off x="5911920" y="4199040"/>
              <a:ext cx="2165400" cy="165096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76240" y="4885920"/>
              <a:ext cx="139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rcRect l="38002" t="10668" r="19999" b="13335"/>
          <a:stretch/>
        </p:blipFill>
        <p:spPr>
          <a:xfrm>
            <a:off x="4687920" y="1498680"/>
            <a:ext cx="3840120" cy="52117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51" name=""/>
          <p:cNvSpPr/>
          <p:nvPr/>
        </p:nvSpPr>
        <p:spPr>
          <a:xfrm>
            <a:off x="39600" y="366840"/>
            <a:ext cx="5023080" cy="2666880"/>
          </a:xfrm>
          <a:prstGeom prst="wedgeEllipseCallout">
            <a:avLst>
              <a:gd name="adj1" fmla="val 66087"/>
              <a:gd name="adj2" fmla="val 34402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ny Questions?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rganic chemistry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is the study of 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arbon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mpou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 atoms are versatile building block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nding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4 stable covalent bo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52148" b="19305"/>
          <a:stretch/>
        </p:blipFill>
        <p:spPr>
          <a:xfrm>
            <a:off x="609480" y="4267080"/>
            <a:ext cx="2492640" cy="190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400800" y="4267080"/>
            <a:ext cx="1905120" cy="1879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07040" y="5340240"/>
            <a:ext cx="593640" cy="5940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78120" y="5340240"/>
            <a:ext cx="594000" cy="5940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52960" y="5475240"/>
            <a:ext cx="349200" cy="122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959360" y="5475240"/>
            <a:ext cx="349200" cy="122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4800" y="5102280"/>
            <a:ext cx="707760" cy="70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743000" y="4820400"/>
            <a:ext cx="1080" cy="370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41680" y="4394160"/>
            <a:ext cx="594000" cy="59364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35080" y="5657040"/>
            <a:ext cx="1080" cy="370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41680" y="5886360"/>
            <a:ext cx="594000" cy="59364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1447920" y="1371600"/>
            <a:ext cx="6019560" cy="5292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3" name=""/>
          <p:cNvSpPr/>
          <p:nvPr/>
        </p:nvSpPr>
        <p:spPr>
          <a:xfrm>
            <a:off x="685800" y="7754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mplex molecules assembled like TinkerToy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27000" t="13585" r="27000" b="13585"/>
          <a:stretch/>
        </p:blipFill>
        <p:spPr>
          <a:xfrm>
            <a:off x="6172200" y="685800"/>
            <a:ext cx="2655720" cy="2786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carb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Combinations of C &amp; H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non-polar</a:t>
            </a: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not soluble in H</a:t>
            </a:r>
            <a:r>
              <a:rPr b="1" lang="en-US" sz="28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phobic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stable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very little attraction </a:t>
            </a: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between molecules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 gas at room temperature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50360" y="3244320"/>
            <a:ext cx="198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methane</a:t>
            </a:r>
            <a:br>
              <a:rPr sz="2600"/>
            </a:b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(simplest HC)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carbons can gro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4147"/>
          <a:stretch/>
        </p:blipFill>
        <p:spPr>
          <a:xfrm>
            <a:off x="304920" y="1371600"/>
            <a:ext cx="861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o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es with same molecular formula but different structures (shapes)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chemical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biological fun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89584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657600" y="4952880"/>
            <a:ext cx="2286000" cy="112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400800" y="3429000"/>
          <a:ext cx="1600200" cy="160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342900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523520" y="4571640"/>
            <a:ext cx="174600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 carbon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1800" y="6171840"/>
            <a:ext cx="174600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 carbon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080" y="5028840"/>
            <a:ext cx="174600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 carbon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248520" y="1908000"/>
            <a:ext cx="2819160" cy="22831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orm affects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al differences create important functional significanc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mino acid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alani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-alanine used in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t not D-alani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dici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-version activ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t not D-vers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metimes with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gic results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867280" y="4417920"/>
            <a:ext cx="3200400" cy="2363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12080" y="6095520"/>
            <a:ext cx="2444040" cy="48996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tereoisome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orm affects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alidomid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escribed to pregnant women in 50s &amp; 60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duced morning sickness, but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ereoisomer caused severe birth defec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4928" t="0" r="4928" b="0"/>
          <a:stretch/>
        </p:blipFill>
        <p:spPr>
          <a:xfrm>
            <a:off x="6531120" y="3941640"/>
            <a:ext cx="2460600" cy="2711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280" y="3924360"/>
            <a:ext cx="3962520" cy="27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rcRect l="267539" t="105809" r="267539" b="105809"/>
          <a:stretch/>
        </p:blipFill>
        <p:spPr>
          <a:xfrm>
            <a:off x="4299120" y="3789360"/>
            <a:ext cx="2047680" cy="2863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11-07T04:05:45Z</cp:lastPrinted>
  <dcterms:modified xsi:type="dcterms:W3CDTF">2008-11-18T16:25:39Z</dcterms:modified>
  <cp:revision>20</cp:revision>
  <dc:subject/>
  <dc:title>Chemistry of Carbon</dc:title>
</cp:coreProperties>
</file>